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1.wmf" ContentType="image/x-wmf"/>
  <Override PartName="/ppt/media/image7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11.jpeg" ContentType="image/jpeg"/>
  <Override PartName="/ppt/media/image9.jpeg" ContentType="image/jpeg"/>
  <Override PartName="/ppt/media/image25.jpeg" ContentType="image/jpeg"/>
  <Override PartName="/ppt/media/image10.wmf" ContentType="image/x-wmf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5.jpeg" ContentType="image/jpeg"/>
  <Override PartName="/ppt/media/image34.jpeg" ContentType="image/jpeg"/>
  <Override PartName="/ppt/media/image36.png" ContentType="image/png"/>
  <Override PartName="/ppt/media/image18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B40-AD66-4A7F-8C6A-E7E1E99C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480-2AB0-410F-B4DF-31F33C1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265-1324-4643-9169-9C299A4B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2E8-9976-49C2-9218-06D96A9D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749-DA34-4805-AFEE-BEE36C5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45C-49F0-442E-9EB8-A75E93A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99-9700-4F49-9FFC-EBFB533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EC6-52FC-4149-90A8-522B773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562-B7DD-4C69-A831-825B361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F32-7206-4894-ADC8-4521E00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CD6-BEA8-45B3-B46E-43A99CA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180-DC32-46E2-8CD0-BAB52E5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D8A-B1B2-4EED-B39E-512F7334D51F}" type="slidenum">
              <a:rPr b="1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upload.wikimedia.org/wikipedia/commons/0/0b/Fernando_Alonso_2006_Canada.jpg&amp;imgrefurl=http://cgi.ebay.es/RENAULT-F1-TEAM-SPIRIT--FERNANDO-ALONSO-SUPERSLOT-NEW!!_W0QQitemZ150316504921QQcmdZViewItemQQimsxZ20081217%3FIMSfp%3DTL081217122001r1536&amp;usg=__hhRO4w6UOcWXHGzrb7TQNZIb7EQ=&amp;h=1365&amp;w=2048&amp;sz=441&amp;hl=es&amp;start=31&amp;tbnid=Po8Q9HN5PMxgzM:&amp;tbnh=100&amp;tbnw=150&amp;prev=/images%3Fq%3DFernando%2BAlonso%26start%3D20%26gbv%3D2%26ndsp%3D20%26hl%3Des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ndigo2004.thecgf.com/library/images/swimming%2520pictogram.jpg&amp;imgrefurl=http://bendigo2004.thecgf.com/About_the_Games/Sports/Swimming/&amp;usg=__XCyQldO6YxJMFf4hDagd9_oIJh4=&amp;h=586&amp;w=586&amp;sz=27&amp;hl=es&amp;start=6&amp;tbnid=Q4aosuKHU8NbcM:&amp;tbnh=135&amp;tbnw=135&amp;prev=/images%3Fq%3DSWIMMING%26gbv%3D2%26ndsp%3D20%26hl%3De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403280" y="1628640"/>
            <a:ext cx="65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logotest"/>
          <p:cNvPicPr/>
          <p:nvPr/>
        </p:nvPicPr>
        <p:blipFill>
          <a:blip r:embed="rId1"/>
          <a:stretch/>
        </p:blipFill>
        <p:spPr>
          <a:xfrm>
            <a:off x="2428920" y="633240"/>
            <a:ext cx="4938840" cy="4938840"/>
          </a:xfrm>
          <a:prstGeom prst="rect">
            <a:avLst/>
          </a:prstGeom>
          <a:ln w="0">
            <a:noFill/>
          </a:ln>
        </p:spPr>
      </p:pic>
      <p:sp>
        <p:nvSpPr>
          <p:cNvPr id="70" name="5 CuadroTexto"/>
          <p:cNvSpPr/>
          <p:nvPr/>
        </p:nvSpPr>
        <p:spPr>
          <a:xfrm>
            <a:off x="647640" y="714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CuadroTexto"/>
          <p:cNvSpPr/>
          <p:nvPr/>
        </p:nvSpPr>
        <p:spPr>
          <a:xfrm>
            <a:off x="857160" y="5357880"/>
            <a:ext cx="73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uts2vbk[1]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571680" y="642960"/>
            <a:ext cx="16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1928880" y="535788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cubadiv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6908760" y="1000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0" y="5286240"/>
            <a:ext cx="119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p-sea div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asketball"/>
          <p:cNvPicPr/>
          <p:nvPr/>
        </p:nvPicPr>
        <p:blipFill>
          <a:blip r:embed="rId1"/>
          <a:stretch/>
        </p:blipFill>
        <p:spPr>
          <a:xfrm>
            <a:off x="-1620720" y="-1609560"/>
            <a:ext cx="11849040" cy="846756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5072040" y="-14292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1785960" y="5500800"/>
            <a:ext cx="76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040630-beach_volleyball-2-ma"/>
          <p:cNvPicPr/>
          <p:nvPr/>
        </p:nvPicPr>
        <p:blipFill>
          <a:blip r:embed="rId1"/>
          <a:stretch/>
        </p:blipFill>
        <p:spPr>
          <a:xfrm>
            <a:off x="0" y="-2019240"/>
            <a:ext cx="9144000" cy="8877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-142920" y="285768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643200" y="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tgovk_zu[1]"/>
          <p:cNvPicPr/>
          <p:nvPr/>
        </p:nvPicPr>
        <p:blipFill>
          <a:blip r:embed="rId1"/>
          <a:stretch/>
        </p:blipFill>
        <p:spPr>
          <a:xfrm>
            <a:off x="-6480" y="-49320"/>
            <a:ext cx="9293400" cy="755028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428760" y="285840"/>
            <a:ext cx="15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6 CuadroTexto"/>
          <p:cNvSpPr/>
          <p:nvPr/>
        </p:nvSpPr>
        <p:spPr>
          <a:xfrm>
            <a:off x="1928880" y="214200"/>
            <a:ext cx="815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Table-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gyyjko1q[1]"/>
          <p:cNvPicPr/>
          <p:nvPr/>
        </p:nvPicPr>
        <p:blipFill>
          <a:blip r:embed="rId1"/>
          <a:stretch/>
        </p:blipFill>
        <p:spPr>
          <a:xfrm>
            <a:off x="2000160" y="333360"/>
            <a:ext cx="5286600" cy="493380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142920" y="28584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1428840" y="5214960"/>
            <a:ext cx="64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Karat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gplcn1o[1]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214200" y="21420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5286240" y="5214960"/>
            <a:ext cx="326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5" descr="Fernando_Alonso_2006_Can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49160" y="0"/>
            <a:ext cx="99615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5 CuadroTexto"/>
          <p:cNvSpPr/>
          <p:nvPr/>
        </p:nvSpPr>
        <p:spPr>
          <a:xfrm>
            <a:off x="-279000" y="3571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928800" y="5429160"/>
            <a:ext cx="82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92d050"/>
                </a:solidFill>
                <a:latin typeface="Arial"/>
              </a:rPr>
              <a:t>Car rac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gymnastics_set_2"/>
          <p:cNvPicPr/>
          <p:nvPr/>
        </p:nvPicPr>
        <p:blipFill>
          <a:blip r:embed="rId1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1435680" y="9288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CuadroTexto"/>
          <p:cNvSpPr/>
          <p:nvPr/>
        </p:nvSpPr>
        <p:spPr>
          <a:xfrm>
            <a:off x="1601280" y="5286240"/>
            <a:ext cx="59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ymnast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50"/>
                            </p:stCondLst>
                            <p:childTnLst>
                              <p:par>
                                <p:cTn id="3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Cj04038970000[1]"/>
          <p:cNvPicPr/>
          <p:nvPr/>
        </p:nvPicPr>
        <p:blipFill>
          <a:blip r:embed="rId1"/>
          <a:stretch/>
        </p:blipFill>
        <p:spPr>
          <a:xfrm>
            <a:off x="2340000" y="549360"/>
            <a:ext cx="4390920" cy="4537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826920" y="69228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90160" y="5157720"/>
            <a:ext cx="345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00px-Synchronized_swimming_pictogram"/>
          <p:cNvPicPr/>
          <p:nvPr/>
        </p:nvPicPr>
        <p:blipFill>
          <a:blip r:embed="rId1"/>
          <a:stretch/>
        </p:blipFill>
        <p:spPr>
          <a:xfrm>
            <a:off x="2500200" y="-214200"/>
            <a:ext cx="4608720" cy="46083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935640" y="4287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CuadroTexto"/>
          <p:cNvSpPr/>
          <p:nvPr/>
        </p:nvSpPr>
        <p:spPr>
          <a:xfrm>
            <a:off x="2428920" y="535788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6 CuadroTexto"/>
          <p:cNvSpPr/>
          <p:nvPr/>
        </p:nvSpPr>
        <p:spPr>
          <a:xfrm>
            <a:off x="1500120" y="3857760"/>
            <a:ext cx="899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yncronize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4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ex_vmz4[1]"/>
          <p:cNvPicPr/>
          <p:nvPr/>
        </p:nvPicPr>
        <p:blipFill>
          <a:blip r:embed="rId1"/>
          <a:stretch/>
        </p:blipFill>
        <p:spPr>
          <a:xfrm>
            <a:off x="2214720" y="0"/>
            <a:ext cx="5194080" cy="645336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0" y="357120"/>
            <a:ext cx="496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7715160" y="135720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ikin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4 CuadroTexto"/>
          <p:cNvSpPr/>
          <p:nvPr/>
        </p:nvSpPr>
        <p:spPr>
          <a:xfrm>
            <a:off x="114984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4286160" y="5214960"/>
            <a:ext cx="62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1D6B6C3000200C87Aladelta%2003%201024"/>
          <p:cNvPicPr/>
          <p:nvPr/>
        </p:nvPicPr>
        <p:blipFill>
          <a:blip r:embed="rId1"/>
          <a:stretch/>
        </p:blipFill>
        <p:spPr>
          <a:xfrm>
            <a:off x="0" y="0"/>
            <a:ext cx="9644040" cy="723600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7221960" y="13572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071800" y="553392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ang gl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aragliding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2 CuadroTexto"/>
          <p:cNvSpPr/>
          <p:nvPr/>
        </p:nvSpPr>
        <p:spPr>
          <a:xfrm>
            <a:off x="79272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1458360" y="5533920"/>
            <a:ext cx="571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Paragl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Parachuters"/>
          <p:cNvPicPr/>
          <p:nvPr/>
        </p:nvPicPr>
        <p:blipFill>
          <a:blip r:embed="rId1"/>
          <a:stretch/>
        </p:blipFill>
        <p:spPr>
          <a:xfrm>
            <a:off x="-139680" y="-214200"/>
            <a:ext cx="9497880" cy="734508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1221480" y="71424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CuadroTexto"/>
          <p:cNvSpPr/>
          <p:nvPr/>
        </p:nvSpPr>
        <p:spPr>
          <a:xfrm>
            <a:off x="0" y="5572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Parachut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ungy%20Jumping-38"/>
          <p:cNvPicPr/>
          <p:nvPr/>
        </p:nvPicPr>
        <p:blipFill>
          <a:blip r:embed="rId1"/>
          <a:stretch/>
        </p:blipFill>
        <p:spPr>
          <a:xfrm>
            <a:off x="1116000" y="1855800"/>
            <a:ext cx="6840720" cy="3112920"/>
          </a:xfrm>
          <a:prstGeom prst="rect">
            <a:avLst/>
          </a:prstGeom>
          <a:ln w="0">
            <a:noFill/>
          </a:ln>
        </p:spPr>
      </p:pic>
      <p:sp>
        <p:nvSpPr>
          <p:cNvPr id="121" name="2 CuadroTexto"/>
          <p:cNvSpPr/>
          <p:nvPr/>
        </p:nvSpPr>
        <p:spPr>
          <a:xfrm>
            <a:off x="1643040" y="50004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CuadroTexto"/>
          <p:cNvSpPr/>
          <p:nvPr/>
        </p:nvSpPr>
        <p:spPr>
          <a:xfrm>
            <a:off x="285840" y="5143680"/>
            <a:ext cx="1200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Bungy jump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oach-KickingBall"/>
          <p:cNvPicPr/>
          <p:nvPr/>
        </p:nvPicPr>
        <p:blipFill>
          <a:blip r:embed="rId1"/>
          <a:stretch/>
        </p:blipFill>
        <p:spPr>
          <a:xfrm>
            <a:off x="1332000" y="0"/>
            <a:ext cx="64785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5072040" y="5572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KICK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divin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35720"/>
          </a:xfrm>
          <a:prstGeom prst="rect">
            <a:avLst/>
          </a:prstGeom>
          <a:ln w="0">
            <a:noFill/>
          </a:ln>
        </p:spPr>
      </p:pic>
      <p:sp>
        <p:nvSpPr>
          <p:cNvPr id="126" name="4 CuadroTexto"/>
          <p:cNvSpPr/>
          <p:nvPr/>
        </p:nvSpPr>
        <p:spPr>
          <a:xfrm>
            <a:off x="3143160" y="5500800"/>
            <a:ext cx="326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DIV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Título" descr=""/>
          <p:cNvPicPr/>
          <p:nvPr/>
        </p:nvPicPr>
        <p:blipFill>
          <a:blip r:embed="rId1"/>
          <a:stretch/>
        </p:blipFill>
        <p:spPr>
          <a:xfrm>
            <a:off x="-19080" y="268200"/>
            <a:ext cx="87123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89080" y="136440"/>
            <a:ext cx="11665080" cy="666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7640" y="3794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-1969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oto-cros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Rock_Climbing_SanDiego"/>
          <p:cNvPicPr/>
          <p:nvPr/>
        </p:nvPicPr>
        <p:blipFill>
          <a:blip r:embed="rId1"/>
          <a:stretch/>
        </p:blipFill>
        <p:spPr>
          <a:xfrm>
            <a:off x="-428760" y="0"/>
            <a:ext cx="6572520" cy="7429680"/>
          </a:xfrm>
          <a:prstGeom prst="rect">
            <a:avLst/>
          </a:prstGeom>
          <a:ln w="0">
            <a:noFill/>
          </a:ln>
        </p:spPr>
      </p:pic>
      <p:sp>
        <p:nvSpPr>
          <p:cNvPr id="129" name="4 CuadroTexto"/>
          <p:cNvSpPr/>
          <p:nvPr/>
        </p:nvSpPr>
        <p:spPr>
          <a:xfrm>
            <a:off x="5715000" y="1143000"/>
            <a:ext cx="49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Climb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shouting"/>
          <p:cNvPicPr/>
          <p:nvPr/>
        </p:nvPicPr>
        <p:blipFill>
          <a:blip r:embed="rId1"/>
          <a:stretch/>
        </p:blipFill>
        <p:spPr>
          <a:xfrm>
            <a:off x="0" y="-142920"/>
            <a:ext cx="6400800" cy="7000920"/>
          </a:xfrm>
          <a:prstGeom prst="rect">
            <a:avLst/>
          </a:prstGeom>
          <a:ln w="0">
            <a:noFill/>
          </a:ln>
        </p:spPr>
      </p:pic>
      <p:pic>
        <p:nvPicPr>
          <p:cNvPr id="131" name="4 CuadroTexto" descr=""/>
          <p:cNvPicPr/>
          <p:nvPr/>
        </p:nvPicPr>
        <p:blipFill>
          <a:blip r:embed="rId2"/>
          <a:stretch/>
        </p:blipFill>
        <p:spPr>
          <a:xfrm>
            <a:off x="7412040" y="457200"/>
            <a:ext cx="2232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running"/>
          <p:cNvPicPr/>
          <p:nvPr/>
        </p:nvPicPr>
        <p:blipFill>
          <a:blip r:embed="rId1"/>
          <a:stretch/>
        </p:blipFill>
        <p:spPr>
          <a:xfrm>
            <a:off x="-2427120" y="0"/>
            <a:ext cx="12420360" cy="8286840"/>
          </a:xfrm>
          <a:prstGeom prst="rect">
            <a:avLst/>
          </a:prstGeom>
          <a:ln w="0">
            <a:noFill/>
          </a:ln>
        </p:spPr>
      </p:pic>
      <p:sp>
        <p:nvSpPr>
          <p:cNvPr id="133" name="4 CuadroTexto"/>
          <p:cNvSpPr/>
          <p:nvPr/>
        </p:nvSpPr>
        <p:spPr>
          <a:xfrm>
            <a:off x="-928800" y="1500120"/>
            <a:ext cx="32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lakota_jumping"/>
          <p:cNvPicPr/>
          <p:nvPr/>
        </p:nvPicPr>
        <p:blipFill>
          <a:blip r:embed="rId1"/>
          <a:stretch/>
        </p:blipFill>
        <p:spPr>
          <a:xfrm>
            <a:off x="-1297080" y="-1074600"/>
            <a:ext cx="11738160" cy="9007200"/>
          </a:xfrm>
          <a:prstGeom prst="rect">
            <a:avLst/>
          </a:prstGeom>
          <a:ln w="0">
            <a:noFill/>
          </a:ln>
        </p:spPr>
      </p:pic>
      <p:sp>
        <p:nvSpPr>
          <p:cNvPr id="135" name="4 CuadroTexto"/>
          <p:cNvSpPr/>
          <p:nvPr/>
        </p:nvSpPr>
        <p:spPr>
          <a:xfrm>
            <a:off x="6072120" y="428760"/>
            <a:ext cx="383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lying-stork"/>
          <p:cNvPicPr/>
          <p:nvPr/>
        </p:nvPicPr>
        <p:blipFill>
          <a:blip r:embed="rId1"/>
          <a:stretch/>
        </p:blipFill>
        <p:spPr>
          <a:xfrm>
            <a:off x="-1279440" y="-960480"/>
            <a:ext cx="11704680" cy="8778960"/>
          </a:xfrm>
          <a:prstGeom prst="rect">
            <a:avLst/>
          </a:prstGeom>
          <a:ln w="0">
            <a:noFill/>
          </a:ln>
        </p:spPr>
      </p:pic>
      <p:sp>
        <p:nvSpPr>
          <p:cNvPr id="137" name="4 CuadroTexto"/>
          <p:cNvSpPr/>
          <p:nvPr/>
        </p:nvSpPr>
        <p:spPr>
          <a:xfrm>
            <a:off x="365760" y="57150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atty_watching_himself_on_TV"/>
          <p:cNvPicPr/>
          <p:nvPr/>
        </p:nvPicPr>
        <p:blipFill>
          <a:blip r:embed="rId1"/>
          <a:stretch/>
        </p:blipFill>
        <p:spPr>
          <a:xfrm>
            <a:off x="-285840" y="-1074600"/>
            <a:ext cx="6929640" cy="9007200"/>
          </a:xfrm>
          <a:prstGeom prst="rect">
            <a:avLst/>
          </a:prstGeom>
          <a:ln w="0">
            <a:noFill/>
          </a:ln>
        </p:spPr>
      </p:pic>
      <p:pic>
        <p:nvPicPr>
          <p:cNvPr id="139" name="4 CuadroTexto" descr=""/>
          <p:cNvPicPr/>
          <p:nvPr/>
        </p:nvPicPr>
        <p:blipFill>
          <a:blip r:embed="rId2"/>
          <a:stretch/>
        </p:blipFill>
        <p:spPr>
          <a:xfrm>
            <a:off x="7448400" y="-42840"/>
            <a:ext cx="2232000" cy="9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ClappingHands"/>
          <p:cNvPicPr/>
          <p:nvPr/>
        </p:nvPicPr>
        <p:blipFill>
          <a:blip r:embed="rId1"/>
          <a:stretch/>
        </p:blipFill>
        <p:spPr>
          <a:xfrm>
            <a:off x="0" y="-1074600"/>
            <a:ext cx="9501120" cy="900720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>
            <a:off x="6572880" y="521496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Clap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nodeType="afterEffect" fill="hold" presetClass="path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66 0.00799 -0.115 0.02797 -0.115 0.04396 C -0.115 0.05861 -0.067 0.06927 -0.003 0.06927 C 0.061 0.06927 0.115 0.05861 0.115 0.04396 C 0.115 0.02797 0.059 0.02398 -0.005 0.03463 C -0.068 0.04662 -0.115 0.0666 -0.115 0.08126 C -0.115 0.09591 -0.066 0.1079 -0.003 0.1079 C 0.061 0.1079 0.115 0.09591 0.115 0.08126 C 0.115 0.0666 0.059 0.06261 -0.004 0.07327 C -0.068 0.08392 -0.115 0.1039 -0.115 0.11856 C -0.115 0.13454 -0.066 0.14653 -0.002 0.14653 C 0.061 0.14653 0.115 0.13454 0.115 0.11856 C 0.115 0.10524 0.059 0.10124 -0.004 0.11056 C -0.067 0.12122 -0.115 0.14253 -0.115 0.15719 C -0.115 0.17184 -0.065 0.18383 -0.002 0.18383 C 0.063 0.18383 0.115 0.17184 0.115 0.15719 C 0.115 0.14253 0.06 0.13854 -0.003 0.1492 C -0.066 0.15985 -0.115 0.17983 -0.115 0.19449 C -0.115 0.21047 -0.065 0.22113 -0.001 0.22113 C 0.063 0.22113 0.115 0.20914 0.115 0.19449 C 0.115 0.17983 0.06 0.17584 -0.003 0.18649 C -0.066 0.19715 -0.115 0.21846 -0.115 0.23179 C -0.115 0.24644 -0.064 0.25843 -0.001 0.25843 C 0.063 0.25843 0.115 0.24644 0.115 0.23179 C 0.115 0.21846 0.061 0.21447 -0.003 0.22379 C -0.066 0.23445 -0.115 0.25576 -0.115 0.27042 C -0.115 0.28374 -0.064 0.29706 0 0.29706 C 0.064 0.29706 0.115 0.28507 0.115 0.27042 C 0.115 0.25576 0.061 0.25177 -0.002 0.26242 C -0.065 0.27308 -0.116 0.29306 -0.115 0.30772 C -0.114 0.32237 -0.064 0.33302 0 0.33302 C 0.064 0.33302 0.115 0.32104 0.115 0.30638 C 0.115 0.29306 0.063 0.28907 0 0.30105 E">
                                      <p:cBhvr>
                                        <p:cTn id="60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500"/>
                            </p:stCondLst>
                            <p:childTnLst>
                              <p:par>
                                <p:cTn id="60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mickey-golf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025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19640" y="5229360"/>
            <a:ext cx="23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txb3qyd[1]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orse-riding-t6531"/>
          <p:cNvPicPr/>
          <p:nvPr/>
        </p:nvPicPr>
        <p:blipFill>
          <a:blip r:embed="rId1"/>
          <a:stretch/>
        </p:blipFill>
        <p:spPr>
          <a:xfrm>
            <a:off x="2048040" y="-142920"/>
            <a:ext cx="5047920" cy="7143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025280" y="-196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32000" y="573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wimming%2520picto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76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39640" y="476280"/>
            <a:ext cx="74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124000" y="5546880"/>
            <a:ext cx="626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19280" y="55468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tep_aerobics"/>
          <p:cNvPicPr/>
          <p:nvPr/>
        </p:nvPicPr>
        <p:blipFill>
          <a:blip r:embed="rId1"/>
          <a:stretch/>
        </p:blipFill>
        <p:spPr>
          <a:xfrm>
            <a:off x="2268360" y="692280"/>
            <a:ext cx="5145120" cy="4244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124000" y="5516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kateboarding"/>
          <p:cNvPicPr/>
          <p:nvPr/>
        </p:nvPicPr>
        <p:blipFill>
          <a:blip r:embed="rId1"/>
          <a:stretch/>
        </p:blipFill>
        <p:spPr>
          <a:xfrm>
            <a:off x="2143080" y="480960"/>
            <a:ext cx="5329440" cy="541656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1076400" y="9288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CuadroTexto"/>
          <p:cNvSpPr/>
          <p:nvPr/>
        </p:nvSpPr>
        <p:spPr>
          <a:xfrm>
            <a:off x="716040" y="5533920"/>
            <a:ext cx="72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kateboar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12:07Z</dcterms:created>
  <dc:creator>rmi</dc:creator>
  <dc:description/>
  <dc:language>en-US</dc:language>
  <cp:lastModifiedBy>I.E.S. FEDERICO GARCIA LORCA</cp:lastModifiedBy>
  <dcterms:modified xsi:type="dcterms:W3CDTF">2009-03-02T13:31:49Z</dcterms:modified>
  <cp:revision>33</cp:revision>
  <dc:subject/>
  <dc:title>Diapositiva 1</dc:title>
</cp:coreProperties>
</file>